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CHIMES.WAV" ContentType="audio/x-wav"/>
  <Override PartName="/ppt/media/CASHREG.WAV" ContentType="audio/x-wav"/>
  <Override PartName="/ppt/media/CAMERA.WAV" ContentType="audio/x-wav"/>
  <Override PartName="/ppt/media/image1.wmf" ContentType="image/x-wmf"/>
  <Override PartName="/ppt/media/LASER.WAV" ContentType="audio/x-wav"/>
  <Override PartName="/ppt/media/DRIVEBY.WAV" ContentType="audio/x-wav"/>
  <Override PartName="/ppt/media/caralarmoff.wav" ContentType="audio/x-wav"/>
  <Override PartName="/ppt/media/image2.wmf" ContentType="image/x-wmf"/>
  <Override PartName="/ppt/media/yabba-dabba-do.wav" ContentType="audio/x-wav"/>
  <Override PartName="/ppt/media/image4.jpeg" ContentType="image/jpeg"/>
  <Override PartName="/ppt/media/jetflyby2.wav" ContentType="audio/x-wav"/>
  <Override PartName="/ppt/media/bserie06.wav" ContentType="audio/x-wav"/>
  <Override PartName="/ppt/media/zapbig0g.wav" ContentType="audio/x-wav"/>
  <Override PartName="/ppt/media/EXPLODE.WAV" ContentType="audio/x-wav"/>
  <Override PartName="/ppt/media/PROJCTOR.WAV" ContentType="audio/x-wav"/>
  <Override PartName="/ppt/media/image3.wmf" ContentType="image/x-wmf"/>
  <Override PartName="/ppt/media/GUNSHOT.WAV" ContentType="audio/x-wav"/>
  <Override PartName="/ppt/media/highchime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ECF-8AE8-45F5-8957-F1B2D67B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613-76F8-4166-B023-D4962ADA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39-B6E4-4F66-A711-5F2830B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3F6-E85B-4F68-A018-0ED669A6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298-0C56-4011-8794-D1A3E31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E67-5CD3-4D42-B2FC-85F46DA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23D-613F-4127-B8D4-FA2FA143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572-9C78-4F7B-B237-782300D6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644-26B7-4844-A406-FE02C5BB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249-8ADA-4165-BE6D-153D8EA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419-8F6A-45C5-AA61-9EB3B76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179-E85C-461C-9915-AD20FEB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F3F5-955D-4BEE-BEBD-91789370D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audio" Target="../media/WHOOSH.WAV"/><Relationship Id="rId8" Type="http://schemas.openxmlformats.org/officeDocument/2006/relationships/audio" Target="../media/GUNSHOT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CASHREG.WAV"/><Relationship Id="rId28" Type="http://schemas.openxmlformats.org/officeDocument/2006/relationships/audio" Target="../media/CASHREG.WAV"/><Relationship Id="rId29" Type="http://schemas.openxmlformats.org/officeDocument/2006/relationships/audio" Target="../media/PROJCTOR.WAV"/><Relationship Id="rId30" Type="http://schemas.openxmlformats.org/officeDocument/2006/relationships/audio" Target="../media/CARBRAKE.WAV"/><Relationship Id="rId31" Type="http://schemas.openxmlformats.org/officeDocument/2006/relationships/audio" Target="../media/DRIVEBY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caralarmoff.wav"/><Relationship Id="rId4" Type="http://schemas.openxmlformats.org/officeDocument/2006/relationships/audio" Target="../media/CHIMES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ralarmoff.wav"/><Relationship Id="rId10" Type="http://schemas.openxmlformats.org/officeDocument/2006/relationships/audio" Target="../media/caralarmoff.wav"/><Relationship Id="rId11" Type="http://schemas.openxmlformats.org/officeDocument/2006/relationships/audio" Target="../media/CHIMES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CHIMES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zapbig0g.wav"/><Relationship Id="rId8" Type="http://schemas.openxmlformats.org/officeDocument/2006/relationships/audio" Target="../media/CHIMES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bserie06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bserie06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bserie06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ralarmoff.wav"/><Relationship Id="rId4" Type="http://schemas.openxmlformats.org/officeDocument/2006/relationships/audio" Target="../media/zapbig0g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bserie06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zapbig0g.wav"/><Relationship Id="rId14" Type="http://schemas.openxmlformats.org/officeDocument/2006/relationships/audio" Target="../media/CHIMES.WAV"/><Relationship Id="rId15" Type="http://schemas.openxmlformats.org/officeDocument/2006/relationships/audio" Target="../media/yabba-dabba-do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3657600" cy="3657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0880" y="1523880"/>
            <a:ext cx="3657600" cy="3657600"/>
            <a:chOff x="380880" y="1523880"/>
            <a:chExt cx="3657600" cy="3657600"/>
          </a:xfrm>
        </p:grpSpPr>
        <p:sp>
          <p:nvSpPr>
            <p:cNvPr id="45" name=""/>
            <p:cNvSpPr/>
            <p:nvPr/>
          </p:nvSpPr>
          <p:spPr>
            <a:xfrm flipV="1">
              <a:off x="2209680" y="152388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33526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2057400"/>
              <a:ext cx="274320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838080" y="2133360"/>
              <a:ext cx="2743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560" y="1676160"/>
              <a:ext cx="152388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371240" y="1676160"/>
              <a:ext cx="167652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840" y="2666880"/>
              <a:ext cx="34290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56840" y="2743200"/>
              <a:ext cx="3429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1911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4648320"/>
            <a:ext cx="53316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4648320"/>
            <a:ext cx="533520" cy="18288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44193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49528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864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60195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5530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708660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7619760" y="4648320"/>
            <a:ext cx="53316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8153280" y="4648320"/>
            <a:ext cx="533520" cy="1828800"/>
          </a:xfrm>
          <a:prstGeom prst="triangle">
            <a:avLst>
              <a:gd name="adj" fmla="val 3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f the circum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2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= b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4648320"/>
            <a:ext cx="0" cy="18288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0"/>
            <a:endCxn id="73" idx="1"/>
          </p:cNvCxnSpPr>
          <p:nvPr/>
        </p:nvCxnSpPr>
        <p:spPr>
          <a:xfrm flipV="1">
            <a:off x="6324480" y="4344480"/>
            <a:ext cx="914760" cy="304200"/>
          </a:xfrm>
          <a:prstGeom prst="curvedConnector3">
            <a:avLst>
              <a:gd name="adj1" fmla="val 2653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5" name=""/>
          <p:cNvGraphicFramePr/>
          <p:nvPr/>
        </p:nvGraphicFramePr>
        <p:xfrm>
          <a:off x="4724280" y="2057400"/>
          <a:ext cx="41148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114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3124080"/>
          <a:ext cx="352080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124080"/>
                    <a:ext cx="35208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648320" y="3533760"/>
          <a:ext cx="3352680" cy="63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533760"/>
                    <a:ext cx="3352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2057400"/>
            <a:ext cx="2743200" cy="2362320"/>
            <a:chOff x="533520" y="2057400"/>
            <a:chExt cx="2743200" cy="2362320"/>
          </a:xfrm>
        </p:grpSpPr>
        <p:sp>
          <p:nvSpPr>
            <p:cNvPr id="85" name=""/>
            <p:cNvSpPr/>
            <p:nvPr/>
          </p:nvSpPr>
          <p:spPr>
            <a:xfrm>
              <a:off x="914400" y="2057400"/>
              <a:ext cx="2362320" cy="2362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32004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 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5029200"/>
            <a:ext cx="28954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3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5638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105520" y="2057400"/>
            <a:ext cx="2895480" cy="2362320"/>
            <a:chOff x="5105520" y="2057400"/>
            <a:chExt cx="2895480" cy="2362320"/>
          </a:xfrm>
        </p:grpSpPr>
        <p:sp>
          <p:nvSpPr>
            <p:cNvPr id="94" name=""/>
            <p:cNvSpPr/>
            <p:nvPr/>
          </p:nvSpPr>
          <p:spPr>
            <a:xfrm>
              <a:off x="5638680" y="205740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386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28958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2210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638680" y="4495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5029200"/>
            <a:ext cx="335304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 )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621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rea of Cir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area of each fig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133720"/>
            <a:ext cx="3352680" cy="4419360"/>
            <a:chOff x="685800" y="2133720"/>
            <a:chExt cx="3352680" cy="4419360"/>
          </a:xfrm>
        </p:grpSpPr>
        <p:grpSp>
          <p:nvGrpSpPr>
            <p:cNvPr id="106" name=""/>
            <p:cNvGrpSpPr/>
            <p:nvPr/>
          </p:nvGrpSpPr>
          <p:grpSpPr>
            <a:xfrm>
              <a:off x="1219320" y="2133720"/>
              <a:ext cx="1828800" cy="3657600"/>
              <a:chOff x="1219320" y="2133720"/>
              <a:chExt cx="1828800" cy="365760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1219320" y="3048120"/>
                <a:ext cx="1828800" cy="182880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400000">
                <a:off x="1179360" y="2173320"/>
                <a:ext cx="1905120" cy="182556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257480" y="3086280"/>
                <a:ext cx="1752480" cy="1828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4240" y="312444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219320" y="342936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1182960" y="3926160"/>
                <a:ext cx="1904760" cy="182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580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8120" y="35053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3048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876920"/>
              <a:ext cx="289584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62120" y="1981080"/>
            <a:ext cx="2895480" cy="4114800"/>
            <a:chOff x="762120" y="1981080"/>
            <a:chExt cx="2895480" cy="4114800"/>
          </a:xfrm>
        </p:grpSpPr>
        <p:sp>
          <p:nvSpPr>
            <p:cNvPr id="118" name=""/>
            <p:cNvSpPr/>
            <p:nvPr/>
          </p:nvSpPr>
          <p:spPr>
            <a:xfrm>
              <a:off x="1219320" y="3047760"/>
              <a:ext cx="1828800" cy="1752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77600" y="297180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2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3352680"/>
              <a:ext cx="304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23880" y="304740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43000" y="1981080"/>
              <a:ext cx="23623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38862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80060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3048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2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657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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038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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76520"/>
            <a:ext cx="1752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3 f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352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9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46483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25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54100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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765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10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3526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962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25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20968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5 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038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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676520"/>
            <a:ext cx="2210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= 20 c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74320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352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4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14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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03848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4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876920" y="1676520"/>
            <a:ext cx="2743200" cy="2361960"/>
            <a:chOff x="4876920" y="1676520"/>
            <a:chExt cx="2743200" cy="2361960"/>
          </a:xfrm>
        </p:grpSpPr>
        <p:sp>
          <p:nvSpPr>
            <p:cNvPr id="156" name=""/>
            <p:cNvSpPr/>
            <p:nvPr/>
          </p:nvSpPr>
          <p:spPr>
            <a:xfrm>
              <a:off x="5257800" y="16765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6920" y="1752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819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94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circle. Give an exact area and an approximate area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64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943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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191120"/>
            <a:ext cx="2590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724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64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1752480"/>
            <a:ext cx="2895480" cy="2362320"/>
            <a:chOff x="228600" y="1752480"/>
            <a:chExt cx="2895480" cy="2362320"/>
          </a:xfrm>
        </p:grpSpPr>
        <p:sp>
          <p:nvSpPr>
            <p:cNvPr id="168" name=""/>
            <p:cNvSpPr/>
            <p:nvPr/>
          </p:nvSpPr>
          <p:spPr>
            <a:xfrm>
              <a:off x="76176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76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4197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5334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900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9436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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8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4191120"/>
            <a:ext cx="259056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lang="en-US" sz="32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4724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00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19720" y="1752480"/>
            <a:ext cx="2895480" cy="2362320"/>
            <a:chOff x="4419720" y="1752480"/>
            <a:chExt cx="2895480" cy="2362320"/>
          </a:xfrm>
        </p:grpSpPr>
        <p:sp>
          <p:nvSpPr>
            <p:cNvPr id="178" name=""/>
            <p:cNvSpPr/>
            <p:nvPr/>
          </p:nvSpPr>
          <p:spPr>
            <a:xfrm>
              <a:off x="4952880" y="1752480"/>
              <a:ext cx="2362320" cy="23623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288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50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9720" y="1905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14800" y="1752480"/>
            <a:ext cx="1904760" cy="1905120"/>
          </a:xfrm>
          <a:prstGeom prst="ellipse">
            <a:avLst/>
          </a:prstGeom>
          <a:solidFill>
            <a:srgbClr val="cc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70 + ½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12.25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5720" y="5973840"/>
            <a:ext cx="388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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9040" y="4714920"/>
            <a:ext cx="373716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70 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3.5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89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3240" y="1752480"/>
            <a:ext cx="3276720" cy="191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1800" y="1751040"/>
            <a:ext cx="3300480" cy="1908000"/>
          </a:xfrm>
          <a:custGeom>
            <a:avLst/>
            <a:gdLst/>
            <a:ahLst/>
            <a:rect l="l" t="t" r="r" b="b"/>
            <a:pathLst>
              <a:path w="2117" h="1193">
                <a:moveTo>
                  <a:pt x="2085" y="0"/>
                </a:moveTo>
                <a:lnTo>
                  <a:pt x="0" y="0"/>
                </a:lnTo>
                <a:lnTo>
                  <a:pt x="0" y="1193"/>
                </a:lnTo>
                <a:lnTo>
                  <a:pt x="2117" y="119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4640" y="1751040"/>
            <a:ext cx="0" cy="97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1800" y="348948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2960" y="174960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5880" y="1758960"/>
            <a:ext cx="155520" cy="155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1800" y="1301760"/>
            <a:ext cx="20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02120" y="20588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000" y="239400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4000" y="1755720"/>
            <a:ext cx="0" cy="190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5640" y="4002120"/>
            <a:ext cx="21096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1/2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60240" y="4079880"/>
                <a:ext cx="306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0 0 L 0.25 0 E">
                                      <p:cBhvr>
                                        <p:cTn id="50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90480" y="1703520"/>
            <a:ext cx="185760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41600" y="1711440"/>
            <a:ext cx="1873080" cy="18572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area of each figure to the nearest square unit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640" y="536256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1600 +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00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720" y="59738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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4714920"/>
            <a:ext cx="47674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600 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18000" y="59720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2856 yd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3360" y="1301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5720" y="4016520"/>
            <a:ext cx="14590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0720" y="4079880"/>
                <a:ext cx="348300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611360" y="1711440"/>
            <a:ext cx="1843200" cy="184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84440" y="169704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3562200"/>
            <a:ext cx="182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3394080"/>
            <a:ext cx="16056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170352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87880" y="3400560"/>
            <a:ext cx="160200" cy="160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81400" y="1709640"/>
            <a:ext cx="160200" cy="16056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87640" y="12603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89120" y="238608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8600" y="1698480"/>
            <a:ext cx="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11440" y="239076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y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animMotion origin="layout" path="M -8.33333E-007 1.56069E-006 L 0.4033 0.03167 E">
                                      <p:cBhvr>
                                        <p:cTn id="585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animMotion origin="layout" path="M 8.05556E-006 4.56647E-006 L 0.60469 0.03376 E">
                                      <p:cBhvr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208 L 0.40156 0.03376 E">
                                      <p:cBhvr>
                                        <p:cTn id="591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9017E-006 L 0.39358 0.03029 E">
                                      <p:cBhvr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17  10 – 3 #1 – 9, 10 – 2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71928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9. Which has a greater area, a circle with radius 2 m or a square with side length 2 m? Explai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240" y="5305320"/>
            <a:ext cx="60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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4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720" y="5959440"/>
            <a:ext cx="45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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4729320"/>
            <a:ext cx="476712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6080" y="4118040"/>
            <a:ext cx="182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6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50800" y="1674720"/>
            <a:ext cx="2743200" cy="2361960"/>
            <a:chOff x="550800" y="1674720"/>
            <a:chExt cx="2743200" cy="2361960"/>
          </a:xfrm>
        </p:grpSpPr>
        <p:sp>
          <p:nvSpPr>
            <p:cNvPr id="231" name=""/>
            <p:cNvSpPr/>
            <p:nvPr/>
          </p:nvSpPr>
          <p:spPr>
            <a:xfrm>
              <a:off x="931680" y="1674720"/>
              <a:ext cx="2362320" cy="23619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0800" y="175068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51000" y="2817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3280" y="2436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162160" y="2816280"/>
            <a:ext cx="1143000" cy="1143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82840" y="2435400"/>
            <a:ext cx="7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1520" y="508176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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72160" y="4367160"/>
            <a:ext cx="24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= (2)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72120" y="5862600"/>
            <a:ext cx="19908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ircl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animMotion origin="layout" path="M 0 0 L 0.38577 -0.06127 E">
                                      <p:cBhvr>
                                        <p:cTn id="65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yabba-dabba-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5-04-14T18:09:35Z</dcterms:modified>
  <cp:revision>17</cp:revision>
  <dc:subject/>
  <dc:title>No Slide Title</dc:title>
</cp:coreProperties>
</file>